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EFD3-E73C-4A93-BA4A-883C1D70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AA72-5585-4022-8BB3-B0F2DF82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87EAD-6073-441C-A1F7-CB5F77B1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9B68D-0EB5-4918-B29C-5BDE7ECED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A516-D4E3-483A-97B7-8589ABFD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5ADC-9739-4A94-9FDF-150DACAC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4DF3-CA1E-400F-A532-0EA33868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6E56-6EFB-4F73-BB5D-FE593949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B27F3-FEDD-4E1B-9B9C-09CC43F0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AA2B-640E-43D5-8547-DD356447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53C41-E55B-4D52-AE12-F9B10FC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BDBC-4394-4343-AD6B-724BAB5E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4DDA-8877-443F-9233-DFC8756B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85D0-49F7-43DD-9AE2-0417BB9F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1CC11-BE72-44F9-85F3-F0B9E64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EDC-2BA6-4021-946B-AAAFE245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075D-D43A-46E6-842E-5F307237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9DB24-32CA-498A-AD8F-691BDDC4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BB46-5D16-499F-9F1E-F3DF828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46D91-7342-4577-B03A-2DA5312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4928-65D0-48DB-92A4-8DE1FDCE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E56C-984A-43D6-8464-FB71BB3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AEAC-7025-42DF-AD13-9E08702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2E328-0291-4FBC-A328-52BB099E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AB24-D0BB-4D6B-A1A1-625AE94FEFA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900F-AAC2-4083-8647-77B6C532041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nálise e Projeto de Sistem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sito Func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quisito Não-Funcion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á vimos que para se iniciar o processo de desenvolvimento de sistemas devemos primeiramente realizar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TREVIST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 os futuros usuário do sistema e que hoje já desempenham os processos que serão implement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mos também, que é somente após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Á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tas entrevistas que podemos obter o valor aproximado 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M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 desenvolvimento do sist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nicamente, o levantamento de requisitos identifica dois tipos de obj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Funcion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s Não-Funcion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leza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 o que é requisito funcional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ão-funcion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QUISITOS FUN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tudo O QUE o sistema deve faz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todas as suas funciona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identificados como vários pequenos proces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em ser classificados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identes, quando o usuário tem conhecimento deste requis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tos, quando o usuário não tem conhecimento explícito do requis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strar 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ultar CEP no site dos Corre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lidar C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QUISITOS NÃO-FUN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restrições que se colocam sobre como o sistema deve realizar seus requisitos func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strar Produ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base de dados deve ser acessada apenas por usuários autor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ltar CEP no site dos Corre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empo de resposta não deve exceder 30 segu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QUISITOS NÃO-FUNC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classificados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terfa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guranç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olerância a falh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uten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d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rigatoried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riga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ejá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erman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itó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 de Documentação de Requi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95280" y="2637000"/>
          <a:ext cx="8291520" cy="224136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1513080"/>
                <a:gridCol w="511200"/>
                <a:gridCol w="496800"/>
                <a:gridCol w="1162080"/>
              </a:tblGrid>
              <a:tr h="43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 - Títu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o (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Não Fu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-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j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antamento de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21844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de uso do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2637000"/>
          <a:ext cx="8291520" cy="2449440"/>
        </p:xfrm>
        <a:graphic>
          <a:graphicData uri="http://schemas.openxmlformats.org/drawingml/2006/table">
            <a:tbl>
              <a:tblPr/>
              <a:tblGrid>
                <a:gridCol w="1440000"/>
                <a:gridCol w="3168360"/>
                <a:gridCol w="1513080"/>
                <a:gridCol w="511200"/>
                <a:gridCol w="496800"/>
                <a:gridCol w="1162080"/>
              </a:tblGrid>
              <a:tr h="3988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- Registrar Empréstimos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o ( X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: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ma descrição suficientemente clara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sitos Não Funciona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digo-N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j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man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e de A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unção só pode ser acessada por um usuário com perfil de operador ou superi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ranç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ten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1T16:57:48Z</dcterms:created>
  <dc:creator>Daniela Louise de Assis Fernandes</dc:creator>
  <dc:description/>
  <dc:language>en-US</dc:language>
  <cp:lastModifiedBy>T2S</cp:lastModifiedBy>
  <dcterms:modified xsi:type="dcterms:W3CDTF">2007-08-20T13:33:25Z</dcterms:modified>
  <cp:revision>14</cp:revision>
  <dc:subject/>
  <dc:title>Análise e Projeto de Sistemas</dc:title>
</cp:coreProperties>
</file>